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1C7-FB09-41C9-A4BB-E5CC4779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043-4159-4913-8389-E78B1822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9DC-43E0-41F7-9653-4A3AC5C7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0F5-16FF-48B9-BCA0-BFD25B6B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4C98-5D35-45C5-ACD9-20A081F4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FF1A-C774-4160-BB9A-9E4C8BC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42E2-162E-44E4-9276-0C58384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0A28-60D7-4D14-B3EB-45A4B36B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DEEB-2DD6-4C85-ACCB-04AF5E5E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4E9B-0A3B-4844-92D1-193C975A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3F4B-45C3-4FE6-966F-76A7F34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6D7-90AC-4A1B-90A4-41772E93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D10B-4E5D-4965-9349-E201195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455-B4D7-42BD-B5DB-2EF083D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BD31-8E71-4398-81BE-C26862F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40ED-2927-4657-9308-A068A494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2EF6-63D3-431C-B1CE-0E9E051D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1409-F25A-4823-BAEB-4FC5F9D1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0C6B-B700-450D-A110-15D0E2D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1BFC-96EA-443F-986E-0E2807F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3505-11BF-4637-8A1E-1DC5F37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0255-BC41-4CA2-99DB-E17C30F7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122-F171-4561-9E24-6074E1E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52CB-0811-4BAD-B622-9901B8E7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B9B9-0BEB-4A96-954D-2C0DB86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AB90-BBB8-4462-8F13-33EB4658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F855-2506-431B-864B-9817E2B1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ED3C-81C6-46EE-82C8-0C7A833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847C-CAA0-46B6-AEBF-4B0DD146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23C7-C136-461E-B573-60DA12BA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1310-E65C-4DD6-9B58-E3AB1CA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4E4D-5D40-4757-82DD-7A601D0A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A185-C4BD-45C7-A1C6-E7A3CE72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F89-9F28-4A2D-9AB4-B7A3BBFC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A015-83EE-4E82-918F-8FF4B8A2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0A74-406F-45A8-A450-903BE04A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CF3A-1ECE-4C15-860E-8700BE75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E6B1-E42B-4B95-8017-E53D0F8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758D-7158-41FC-9EBF-4B479726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0D12-F739-4500-B82A-86FD7246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F903-DBA4-48B4-A2C2-AEDF5BD3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7AEB-9075-489F-8793-02663CA1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6150-37C6-4279-9FED-47EB972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CDA5-1151-4144-852A-582F69F8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E8C-E2BB-478E-914F-F14BC8E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11252-E41A-4F00-96BE-3E299552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F4D1-79A8-43A9-9108-55EB64D6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382D-FB88-4DAF-ACA3-1379CA27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6A45-F7F5-4B74-BAA6-D086C04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0A2B-856A-4A89-8716-0DFA01BC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B73C-E30E-4EF2-A5DA-7A1D76D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3B4F-E907-465B-997C-57896F5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6DED-8E08-4A44-8CF6-1D6640A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7999-D0CF-4C60-BC17-FCBEC93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2EB4-EA58-406C-9C62-A75FF96A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66C-D40A-486E-BC53-ED2FE33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C221-DD49-44A2-96FC-88297ABE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A4B9-F88D-4ED1-9879-8AC26FA7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7584-7C92-4EBE-A557-8B32AFB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6FEA3-7EC9-4FC0-B26A-961FB88A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F0511-39F8-46F0-B737-E54E8F55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87BD-45D8-4CAA-A6BD-F7E2C90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F062-715E-4488-93D3-D989EDB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9B00-8AA2-46D5-8F19-C34DBBF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29B1E-A96C-48B1-B8BA-12704FA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0053-0790-429E-B0AB-F6F7507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681-5E08-45C2-BC28-D28499E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15DB-9301-4BFE-8A3E-DEBB0695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8078-386B-4389-A177-2D11873D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218E-4ABF-4A85-8E09-E19ED14C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0E16E-2746-491B-8777-F03363C9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8E9D2-A3A7-428A-BB93-7FD877B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C098-4BD2-4E29-BD87-B5822E5F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6AA6-95A0-47A8-A4C0-37589693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FA65-EED0-4DDE-849C-B0E468E0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ED11-79F8-4933-8AB9-8CA35A2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C8AA-110C-4E75-AD22-798C082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0EF-F878-4BB5-965E-D790504D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FB57-C186-465F-ADF7-F9BDFD9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91F1-DD10-4E4F-BB7A-25A004A3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073E-1405-4018-BCD6-CD0A7C9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55626-EB04-4A8B-8EF4-5281507D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AB8B-E5D0-4A61-A55D-B322006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018-C103-46A9-AB9A-74D973C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EF2-E259-48F4-8ED2-F0BCBC4F3D2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26BE-48A7-4E14-B05B-F3B4604962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FB7-DD19-488B-BDF3-2F4421FDBD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C25-0D4F-4B57-BD03-F7895BAB54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B93A-E04A-43C0-9EA1-476CF31702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672-7784-4E88-B7BA-45827E9EF65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2C2-382C-4104-B8E8-910E992447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Bradley Hand ITC"/>
              </a:rPr>
              <a:t>Tips, Tricks and Tools for Wr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20e04"/>
                </a:solidFill>
                <a:uFillTx/>
                <a:latin typeface="Gill Sans MT"/>
              </a:rPr>
              <a:t>C.A.S.E. Assistive Technology Tea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Paula Costello MS, OTR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Tricia Sharkey MA CCC-SLP/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Mary May, Orthopedically Impaired Itinerant Teach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Barb Layer, Orthopedically Impaired Itinerant Teach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br>
              <a:rPr sz="2200"/>
            </a:br>
            <a:r>
              <a:rPr b="0" lang="en-US" sz="1400" spc="-1" strike="noStrike">
                <a:solidFill>
                  <a:srgbClr val="3333ff"/>
                </a:solidFill>
                <a:latin typeface="Gill Sans MT"/>
              </a:rPr>
              <a:t>Task:  Drafting</a:t>
            </a:r>
            <a:br>
              <a:rPr sz="2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14040" y="16765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Outlin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Sentence Start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Model assignm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Use of checklist in writing proces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Photographs to support writin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Word bank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List of transition words and phras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428640" y="16765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d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762120" y="1295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5715000" y="1752480"/>
            <a:ext cx="259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ch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 Interactive Writing Softwar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lassroom Suit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Kurzweil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Read/Write Gold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OLO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Writer, 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OutLoud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OutlLou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Build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licker 5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lozepro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Word Q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ff"/>
                </a:solidFill>
                <a:latin typeface="Gill Sans MT"/>
              </a:rPr>
              <a:t>Revision and Ed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ad and Review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 the message complete, logical and clea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vise and edit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d I engage my audience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d I use conventional grammar and spell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should I delete, add or chang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br>
              <a:rPr sz="2200"/>
            </a:br>
            <a:r>
              <a:rPr b="0" lang="en-US" sz="1400" spc="-1" strike="noStrike">
                <a:solidFill>
                  <a:srgbClr val="3333ff"/>
                </a:solidFill>
                <a:latin typeface="Gill Sans MT"/>
              </a:rPr>
              <a:t>Task:  Revision/Editing</a:t>
            </a:r>
            <a:br>
              <a:rPr sz="2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720" y="175248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ord Walls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ortable file folder word wal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Cards/Book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Dictiona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Thesauru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05320" y="175248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d Tec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Hand Held Dictionary/spell check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Electronic Dictiona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Electronic Thesauru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762120" y="1295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60040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6019920" y="1752480"/>
            <a:ext cx="259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ch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omputer Software to support word processing (spell checker, thesaurus)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creen/Text Read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Talking Word Processo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Interactive Writing Softwar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II.  Transcription Skil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cription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l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writing/Keyboar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pitalization/Punct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2666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LOW TECH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         MID TECH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     HIGH TECH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         </a:t>
            </a: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        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Spell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55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56" name="TextBox 5"/>
          <p:cNvSpPr/>
          <p:nvPr/>
        </p:nvSpPr>
        <p:spPr>
          <a:xfrm>
            <a:off x="1148760" y="3200400"/>
            <a:ext cx="165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all/banks/list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3276720" y="3276720"/>
            <a:ext cx="22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held audio spell check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5791320" y="3200400"/>
            <a:ext cx="2895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 checker in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–in-features of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alone spell checker with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and auto correct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Support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Writ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5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Based software such as Ging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LOW TECH         MID TECH               HIGH TECH</a:t>
            </a: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Keyboard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TextBox 5"/>
          <p:cNvSpPr/>
          <p:nvPr/>
        </p:nvSpPr>
        <p:spPr>
          <a:xfrm>
            <a:off x="1066680" y="3124080"/>
            <a:ext cx="2057400" cy="35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writing programs: e.g.. HWT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boarding vs. Handwriting- Writing Productivity Profile  (Website)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boarding Progr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Type to Learn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 Typ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ance Mat Typ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3505320" y="3276720"/>
            <a:ext cx="2133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gu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board Stick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ble Word Processo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Strategies and   Accessibility options: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lor backgroun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Key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reviation Expansion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6177240" y="3276720"/>
            <a:ext cx="21294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mouse/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rackball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gKey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llikey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screen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ch Screen/Window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Control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Writing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x Writ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licker 5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   </a:t>
            </a: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LOW TECH    MID TECH</a:t>
            </a: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      HIGH TECH</a:t>
            </a:r>
            <a:br>
              <a:rPr sz="3200"/>
            </a:br>
            <a:r>
              <a:rPr b="1" lang="en-US" sz="14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Handwrit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7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68" name="TextBox 8"/>
          <p:cNvSpPr/>
          <p:nvPr/>
        </p:nvSpPr>
        <p:spPr>
          <a:xfrm>
            <a:off x="1066680" y="3200400"/>
            <a:ext cx="2133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grip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pens/pencil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lined pap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 pap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nted surface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ett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ber stamp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it-note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ncils to trace lett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lines/lett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writing program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3282480" y="3200400"/>
            <a:ext cx="200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record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record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0" name="TextBox 10"/>
          <p:cNvSpPr/>
          <p:nvPr/>
        </p:nvSpPr>
        <p:spPr>
          <a:xfrm>
            <a:off x="5874480" y="3200400"/>
            <a:ext cx="2946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prediction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screen word bank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screen math/computer calculato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screen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ch screen monit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methods to access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LOW TECH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 MID TECH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          HIGH TECH</a:t>
            </a:r>
            <a:br>
              <a:rPr sz="2900"/>
            </a:br>
            <a:r>
              <a:rPr b="1" lang="en-US" sz="1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1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Capitalization/Punctua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74" name="TextBox 5"/>
          <p:cNvSpPr/>
          <p:nvPr/>
        </p:nvSpPr>
        <p:spPr>
          <a:xfrm>
            <a:off x="6473520" y="327672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rite Outlou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aft Build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llitalk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205080" y="335268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reading option in word processor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1143000" y="33526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r’s workshop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edit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member….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of the TOOL is part of the IEP plan, it is  NOT the goal…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use of the tool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uccessfully complete the tas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the go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72314"/>
                </a:solidFill>
                <a:uFillTx/>
                <a:latin typeface="Gill Sans MT"/>
              </a:rPr>
              <a:t>IEP goals for writing skills using Assistive Technology</a:t>
            </a:r>
            <a:r>
              <a:rPr b="0" lang="en-US" sz="3600" spc="-1" strike="noStrike" u="sng">
                <a:solidFill>
                  <a:srgbClr val="572314"/>
                </a:solidFill>
                <a:uFillTx/>
                <a:latin typeface="Gill Sans MT"/>
              </a:rPr>
              <a:t>	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be linked to academic goals focused on written express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 task speci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ement interventions and use sequentially, break goal down into smaller steps for use of the new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progress measurable-how will I determine if the device or strategy has been successfu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collection is important!!  Take a look at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isconsin Assistive Technology Initiativ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site (www.wati.org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72314"/>
                </a:solidFill>
                <a:uFillTx/>
                <a:latin typeface="Gill Sans MT"/>
              </a:rPr>
              <a:t>Writing Instruction Components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.   </a:t>
            </a:r>
            <a:r>
              <a:rPr b="0" lang="en-US" sz="3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.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ranscription Ski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I.  Language Stru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Resource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he following slides provide screen shots of popular software and websites that are available to educators for tools to support struggling wri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CoWriter.jpg"/>
          <p:cNvPicPr/>
          <p:nvPr/>
        </p:nvPicPr>
        <p:blipFill>
          <a:blip r:embed="rId1"/>
          <a:stretch/>
        </p:blipFill>
        <p:spPr>
          <a:xfrm>
            <a:off x="-685800" y="0"/>
            <a:ext cx="103633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Clicker 5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" descr="Clozepro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Wordbar.jpg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WordQ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" descr="WriteOutloud.jpg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" descr="WriteOnline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19160" y="1281240"/>
            <a:ext cx="89056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760" y="947880"/>
            <a:ext cx="89344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ff"/>
                </a:solidFill>
                <a:latin typeface="Gill Sans MT"/>
              </a:rPr>
              <a:t>I.  Writing Proce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ing Process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ainstorming/Planning/Organiz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iting and Proofrea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raf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1047600"/>
            <a:ext cx="91533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66600" y="1285920"/>
            <a:ext cx="9010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66600" y="1200240"/>
            <a:ext cx="9010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Web 2.0 Writing Resources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666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myinfinitec.or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eb2specialeducation.pbworks.com/Writing-T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udltechtoolkit.wikispaces.com/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infinitecwritingseries.wikispaces.com/Featured+Too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montgomeryschoolsmd.org/departments/.../WPP_how_to.pd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teachervision.com (graphic organiz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edhelper.com (graphic organiz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docs.google.com/View?id=dgkw4pv6_152dh939kht (D.97 AT Specialist created this google doc to compile all resources from workshop-EXCELLENT RESOURCE!!!!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erials for this presentation adapted from information obtained at the Infinitec Writing Linked Series Workshops (2009-2010)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6 + 1 Trai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434960" y="1447920"/>
          <a:ext cx="7499520" cy="48513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6828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ges of Writ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 +1 Tra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 rowSpan="2"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 rowSpan="3"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RAF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rd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tence Fl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 rowSpan="2"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VISE/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Gill Sans MT"/>
              </a:rPr>
              <a:t>Brainstorming, Planning and Organization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Generating Idea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 I have to sa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etting goal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o am I writing to and what do I want to communicate to them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Organizing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what form will I express my ideas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ill I include and what will I leave ou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pports/To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istive Technology supports and tools should be thought of on 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ntinuum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nging from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ow to hig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echnologic support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AT Tools Continuum Flowchart.jpg"/>
          <p:cNvPicPr/>
          <p:nvPr/>
        </p:nvPicPr>
        <p:blipFill>
          <a:blip r:embed="rId1"/>
          <a:stretch/>
        </p:blipFill>
        <p:spPr>
          <a:xfrm>
            <a:off x="-1295280" y="-533520"/>
            <a:ext cx="107442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br>
              <a:rPr sz="2200"/>
            </a:br>
            <a:r>
              <a:rPr b="0" lang="en-US" sz="1400" spc="-1" strike="noStrike">
                <a:solidFill>
                  <a:srgbClr val="3333ff"/>
                </a:solidFill>
                <a:latin typeface="Gill Sans MT"/>
              </a:rPr>
              <a:t>Task:  Brainstorming/Planning/Organizing</a:t>
            </a:r>
            <a:br>
              <a:rPr sz="2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90720" y="167652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per Graphic Organiz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ry erase board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   Checklis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  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eading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ost It not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8640" y="16765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d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762120" y="1295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5867280" y="1752480"/>
            <a:ext cx="259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ch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with word processing capabilities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 features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line or notebook view; Audio notes toolba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Build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zweil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Tools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ff"/>
                </a:solidFill>
                <a:latin typeface="Gill Sans MT"/>
              </a:rPr>
              <a:t>Draf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Generating the language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I translate my ideas into words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I select good words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I connect ideas within and between my sente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ranscription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spelling and punctuation marks do I need to includ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27:55Z</dcterms:created>
  <dc:creator>Cooperative Association For Special Education</dc:creator>
  <dc:description/>
  <dc:language>en-US</dc:language>
  <cp:lastModifiedBy>Cooperative Association For Special Education</cp:lastModifiedBy>
  <dcterms:modified xsi:type="dcterms:W3CDTF">2010-10-12T01:10:50Z</dcterms:modified>
  <cp:revision>58</cp:revision>
  <dc:subject/>
  <dc:title>Tips, Tricks and Tools for Writing</dc:title>
</cp:coreProperties>
</file>